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E4C-7FF9-48F9-A2E6-36EE2E5A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E87-2B54-4AF1-89A9-DF40CACC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6C7-50A6-4EF1-A9E1-F5EA50AC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F90-72D9-4EC8-844F-C9553395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4D2-4C5F-49B9-9148-BAF28A63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3F2-AF72-4D5B-842A-49CDF89A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F3F-A2C8-48BC-B42E-1108B94C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363-B807-42EC-BE96-C37D71B7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6A6-EA39-48D2-A864-4B5AC8CB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047-89FF-41FC-AAE9-D457845F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BF07-3530-4640-9047-AC73F886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902-758D-4150-AF05-62EBD6CA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A653-3346-45B9-BC17-E5FD73730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zooka"/>
              </a:rPr>
              <a:t>Gla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; to stare angr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; m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; hap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; glare-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;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685800"/>
            <a:ext cx="249552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oytell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a person who tells 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s: a 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yms: not a person who tells 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lable: story.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word: 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ection: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2590920" cy="294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sigh out and t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place to r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check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check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12408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ro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lo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lo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st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bor; r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45160" y="609480"/>
            <a:ext cx="2889360" cy="518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zooka"/>
              </a:rPr>
              <a:t>Eager</a:t>
            </a:r>
            <a:r>
              <a:rPr b="0" lang="en-US" sz="4400" spc="-1" strike="noStrike">
                <a:solidFill>
                  <a:srgbClr val="000000"/>
                </a:solidFill>
                <a:latin typeface="Bazook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Definition: full excitemen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Synonym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ex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Antonyms: s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Base word: 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Inflection: 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022560" cy="281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04920" y="0"/>
            <a:ext cx="160020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t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3</cp:lastModifiedBy>
  <dcterms:modified xsi:type="dcterms:W3CDTF">2008-10-22T17:29:24Z</dcterms:modified>
  <cp:revision>5</cp:revision>
  <dc:subject/>
  <dc:title>PowerPoint Presentation</dc:title>
</cp:coreProperties>
</file>